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3.png" ContentType="image/png"/>
  <Override PartName="/ppt/media/image22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9.jpeg" ContentType="image/jpeg"/>
  <Override PartName="/ppt/media/image11.png" ContentType="image/png"/>
  <Override PartName="/ppt/media/image17.jpeg" ContentType="image/jpeg"/>
  <Override PartName="/ppt/media/image3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4.jpeg" ContentType="image/jpeg"/>
  <Override PartName="/ppt/media/image40.png" ContentType="image/png"/>
  <Override PartName="/ppt/media/image26.jpeg" ContentType="image/jpeg"/>
  <Override PartName="/ppt/media/image42.png" ContentType="image/png"/>
  <Override PartName="/ppt/media/image5.jpeg" ContentType="image/jpeg"/>
  <Override PartName="/ppt/media/image35.jpeg" ContentType="image/jpeg"/>
  <Override PartName="/ppt/media/image36.png" ContentType="image/png"/>
  <Override PartName="/ppt/media/image37.jpeg" ContentType="image/jpeg"/>
  <Override PartName="/ppt/media/image41.jpeg" ContentType="image/jpeg"/>
  <Override PartName="/ppt/media/image45.jpeg" ContentType="image/jpeg"/>
  <Override PartName="/ppt/media/image44.jpeg" ContentType="image/jpeg"/>
  <Override PartName="/ppt/media/image43.png" ContentType="image/png"/>
  <Override PartName="/ppt/media/image47.jpeg" ContentType="image/jpeg"/>
  <Override PartName="/ppt/media/image48.jpeg" ContentType="image/jpeg"/>
  <Override PartName="/ppt/media/image50.jpeg" ContentType="image/jpeg"/>
  <Override PartName="/ppt/media/image52.png" ContentType="image/png"/>
  <Override PartName="/ppt/media/image30.jpeg" ContentType="image/jpeg"/>
  <Override PartName="/ppt/media/image46.jpeg" ContentType="image/jpeg"/>
  <Override PartName="/ppt/media/image51.jpeg" ContentType="image/jpeg"/>
  <Override PartName="/ppt/media/image34.jpeg" ContentType="image/jpeg"/>
  <Override PartName="/ppt/media/image20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32.jpeg" ContentType="image/jpeg"/>
  <Override PartName="/ppt/media/image31.jpeg" ContentType="image/jpeg"/>
  <Override PartName="/ppt/media/image12.png" ContentType="image/png"/>
  <Override PartName="/ppt/media/image13.png" ContentType="image/png"/>
  <Override PartName="/ppt/media/image54.jpeg" ContentType="image/jpeg"/>
  <Override PartName="/ppt/media/image53.wmf" ContentType="image/x-wmf"/>
  <Override PartName="/ppt/media/image39.jpeg" ContentType="image/jpeg"/>
  <Override PartName="/ppt/media/image8.png" ContentType="image/png"/>
  <Override PartName="/ppt/media/image18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1E53-FE34-4163-B941-BDC54E141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 Sunscree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Wave of the Future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odified slightly from the NanoSense web material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 Sun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ve of the Fu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d slightly from the NanoSense web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is Radiatio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ight radiation is often thought of as a wave with a wavelength (l) and frequency (f) related by this equation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pueblo.gsa.gov/cic_text/health/sun_uv/sun-uv-you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ince c (the speed of light) is constant,  the wavelength and frequency are inversely relat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is means that light with a short wavelength will have a high frequency and visa versa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adi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radiation is often thought of as a wave with a wavelength (l) and frequency (f) related by this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pueblo.gsa.gov/cic_text/health/sun_uv/sun-uv-you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c (the speed of light) is constant,  the wavelength and frequency are inversely re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at light with a short wavelength will have a high frequency and visa ver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o Ways to Think about Radiation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nergy Comes in Packets (Photons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ize of an energy packet (E) is determined by the frequency of the radiation (f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Radiation with a higher frequency has more energy in each packe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amount of energy in a packet determines how it interacts with our ski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Ways to Think about Radi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Comes in Packets (Pho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ze of an energy packet (E) is determined by the frequency of the radiation (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with a higher frequency has more energy in each pa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energy in a packet determines how it interacts with our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o Ways to Think about Radiation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otal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is relates not only to how much energy is in each packet but also to the total number of packets arriving at a given location (such as our skin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epa.gov/sunwise/uvwhat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otal Energy depends on many factors including the intensity of sun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UV Index rates the total intensity of UV light for many locations in the US daily: http://www.epa.gov/sunwise/uvindex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Ways to Think about Radi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lates not only to how much energy is in each packet but also to the total number of packets arriving at a given location (such as our sk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epa.gov/sunwise/uvwha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Energy depends on many factors including the intensity of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V Index rates the total intensity of UV light for many locations in the US daily: http://www.epa.gov/sunwise/uv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Da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kind of skin damage is determined by the size of the energy packet ( E = h x f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UV spectrum is broken into three parts: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Very High Energy (UVC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 Energy (UVB)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w Energy (UVA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 Energy    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s far as we know, visible and IR radiation don’t harm the ski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kind of skin damage is determined by the size of the energy packet ( E = h x 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V spectrum is broken into three par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 Energy (UV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(UVB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Energy (UV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far as we know, visible and IR radiation don’t harm the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Very high energy radiation (UVC) is currently blocked by the ozone layer (ozone hole issue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 energy radiation (UVB) does the most immediate damage (sunburns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But lower energy radiation (UVA) can penetrate deeper into the skin, leading to long term da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N.A. Shaath. The Chemistry of Sunscreens. In: Lowe NJ, Shaath NA, Pathak MA, editors. Sunscreens, development, evaluation, and regulatory aspects. New York: Marcel Dekker; 1997. p. 263-283.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Damage II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 energy radiation (UVC) is currently blocked by the ozone layer (ozone hole iss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radiation (UVB) does the most immediate damage (sunbur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lower energy radiation (UVA) can penetrate deeper into the skin, leading to long term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N.A. Shaath. The Chemistry of Sunscreens. In: Lowe NJ, Shaath NA, Pathak MA, editors. Sunscreens, development, evaluation, and regulatory aspects. New York: Marcel Dekker; 1997. p. 263-28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Damage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 Radiation Summar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creasing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creasing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velength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Radiation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ith all of this possible damage, it pays to wear sunscreen, but which one should you use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niehs.nih.gov/oc/factsheets/genes/home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 all of this possible damage, it pays to wear sunscreen, but which one should you u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http://www.niehs.nih.gov/oc/factsheets/genes/hom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ich Sunscreen Should You Use??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ew and Improv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ow with Nano-Z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PF 50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Goes on Clea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afe for Childre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Broadband Prote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Sunscreen Should You Us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and Impr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with Nano-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F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es on Cl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fe for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adband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Challenge: 3 Essential Questio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are the most important factors to consider in choosing a sunscree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you know if a sunscreen has “nano” ingredient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“nano” sunscreen ingredients differ from other ingredients currently used in sunscreen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llenge: 3 Essential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most important factors to consider in choosing a sunscre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if a sunscreen has “nano” ingredi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“nano” sunscreen ingredients differ from other ingredients currently used in sunscre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bbc.co.uk/wiltshire/content/articles/2005/05/05/peoples_war_feature.s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Beginnin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First developed for soldiers in WWII (1940s) to block “sunburn causing rays”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horter wavelengths (more energy) called UVC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nger wavelengths (less energy) called UVA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se were called UVB ray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WII soldier in the su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http://www.bbc.co.uk/wiltshire/content/articles/2005/05/05/peoples_war_feature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rpansa.gov.au/is_suny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eveloped for soldiers in WWII (1940s) to block “sunburn causing ray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er wavelengths (more energy) called UV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er wavelengths (less energy) called U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ere called UVB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II soldier in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 Produc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umber of products using nanomaterials is growing very rapidl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oubling every year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lothing, food and beverages, sporting goods, coatings, cosmetics, personal car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screens: many use nanomaterial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me labeled as containing nanopartic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me not label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ducts using nanomaterials is growing very rapi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ing every y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ing, food and beverages, sporting goods, coatings, cosmetics, personal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creens: many use nano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abeled as containing nano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not labe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shop.beautysurg.com/ProductImages/skincare/14521.jpg and   http://www.shop.beautysurg.com/ProductImages/skincare/14520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PF Ratin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PF (Sunscreen Protection Factor) Numb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easures the strength of UVB protection onl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er SPF # = more protection from UVB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oesn’t tell you anything about protection from UVA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screens first developed to prevent sunbur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gredients were good UVB block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http://www.shop.beautysurg.com/ProductImages/skincare/14521.jpg and   http://www.shop.beautysurg.com/ProductImages/skincare/14520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F 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F (Sunscreen Protection Factor)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s the strength of UVB protection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SPF # = more protection from UV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n’t tell you anything about protection from U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creens first developed to prevent sunb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gredients were good UVB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UVA Proble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VA rays have no immediate visible effects but cause serious long term damage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agin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screen makers working to find UVA block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o official rating of UVA protection ye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cs.wright.edu/~agoshtas/fig8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enty different skin cancer lesio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V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A rays have no immediate visible effects but cause serious long term dam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creen makers working to find UVA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fficial rating of UVA protection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cs.wright.edu/~agoshtas/fig8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 different skin cancer le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you know if your sunscreen is a good UVA blocker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if your sunscreen is a good UVA block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Know Your Sunscreen: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ok at the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tion has “inactive ingredients”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on’t block UV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V blocking agents are “active ingredients”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sually have more than one kind presen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Original I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V blocking agents suspended in a lo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olloidal suspension”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o kinds of active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 and inorganic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Your Sunscree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ion has “inactive ingredien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lock UV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blocking agents are “active ingredien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have more than one kind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Original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blocking agents suspended in a l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oidal suspens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kinds of active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ingredients and inorganic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: The Basic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= Carbon Atom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ydrogen, oxygen &amp; nitrogen atoms are also often involv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ovalent bond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xist as individual molecu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ize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olecular formula determines siz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ypical a few to several dozen Å (&lt;10 nm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3dchem.com/molecules.asp?ID=135# and original i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ctyl methoxycinnamate  (C18H26O3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n organic sunscreen ingredien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ic Ingredients: The Ba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ic = Carbon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ydrogen, oxygen &amp; nitrogen atoms are also often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valent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ist as individual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iz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lecular formula determines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ypical a few to several dozen Å (&lt;10 n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urces: http://www.3dchem.com/molecules.asp?ID=135# and original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tyl methoxycinnamate  (C18H26O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 organic sunscreen ingred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: UV Absorp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lectrons capture the energy from UV ray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y jump to higher energy level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energy is released as infrared rays which are harmless (each ray is low in energy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3dchem.com/molecules.asp?ID=135#and http://members.aol.com/WSRNet/tut/absorbu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f=2.48 eV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3hf=2.48 eV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Ingredients: UV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capture the energy from UV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jump to higher energy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is released as infrared rays which are harmless (each ray is low in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Adapted from http://www.3dchem.com/molecules.asp?ID=135#and http://members.aol.com/WSRNet/tut/absorbu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f=2.48 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hf=2.48 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: Absorption Ran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molecules only absorb UV rays whose energy matches difference between electron energy levels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ifferent kinds of molecules have different peaks and ranges of absorp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sing more than one kind of ingredient (molecule) gives broader prote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ne Ingredient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o Ingredients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ree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Graphs adapted from http://www.aims.gov.au/pages/research/projects/sunscreens/pages/sunscreens02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Ingredients: Absorption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molecules only absorb UV rays whose energy matches difference between electron energy lev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kinds of molecules have different peaks and ranges of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more than one kind of ingredient (molecule) gives broader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Ingredi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Ingredient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Graphs adapted from http://www.aims.gov.au/pages/research/projects/sunscreens/pages/sunscreens0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: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bsorption Range cont.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ost organic ingredients that are currently used were selected because they are good UVB absorb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FDA has approved 15 organic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screen makers are trying to develop organic ingredients that are good UVA block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vobenzone (also known as Parasol 1789) is a new FDA approved UVA block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jchemed.chem.wisc.edu/JCEWWW/Features/MonthlyMolecules/2004/Oct/JCE2004p1491fig4.gif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Ingredient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Range 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rganic ingredients that are currently used were selected because they are good UVB absor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DA has approved 15 organic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creen makers are trying to develop organic ingredients that are good UVA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benzone (also known as Parasol 1789) is a new FDA approved UVA bloc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jchemed.chem.wisc.edu/JCEWWW/Features/MonthlyMolecules/2004/Oct/JCE2004p1491fig4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are inorganic sunscreen ingredients different from organic one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might this affect the way they absorb UV light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inorganic sunscreen ingredients different from organic on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ight this affect the way they absorb UV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 Ingredients: The Basic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toms Involv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Zinc or Titaniu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onic attra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luster of io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Formula unit doesn’t dictate siz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ize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Varies with # of ions in clust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10 nm – 300 n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microspheres-nanospheres.com/Images/Titania/TIO2%20P7.jpg and image adapted from http://www.cse.clrc.ac.uk/msi/projects/ropa.s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Group of TiO2 partic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etail of the ions in one clust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organic Ingredients: The Ba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nc or 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 at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ster of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 unit doesn’t dictate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z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s with # of ions in c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10 nm – 30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microspheres-nanospheres.com/Images/Titania/TIO2%20P7.jpg and image adapted from http://www.cse.clrc.ac.uk/msi/projects/ropa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TiO2 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ail of the ions in one c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ttp://www.masspolicy.org/pdf/workshop/rejeski.pdf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ttp://www.masspolicy.org/pdf/workshop/rejeski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 Ingredients: Cluster Siz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 ingredients come in different cluster sizes (sometimes called “particles”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ifferent number of ions can cluster togeth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ust be a multiple of the formula uni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ZnO always has equal numbers of Zn and O atom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iO2 always has twice as many O as Ti atom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100 nm TiO2 particle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200 nm TiO2 particl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Images adapted from http://www.cse.clrc.ac.uk/msi/projects/ropa.s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organic Ingredients: Cluster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organic ingredients come in different cluster sizes (sometimes called “particle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number of ions can cluster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 multiple of the formula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nO always has equal numbers of Zn and O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O2 always has twice as many O as Ti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100 nm TiO2 partic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200 nm TiO2 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Images adapted from http://www.cse.clrc.ac.uk/msi/projects/ropa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 Ingredients: UV Absorp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s have a different absorption mechanism than organic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bsorb consistently through whole UV range up to ~380n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is the absorption pattern different than for organic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organic Ingredients: UV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organics have a different absorption mechanism than orga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bsorb consistently through whole UV range up to ~380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w is the absorption pattern different than for organic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f inorganic sunscreen ingredients block UVA light, why doesn’t everybody use them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loc.gov/rr/scitech/mysteries/images/sunscreen2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norganic sunscreen ingredients block UVA light, why doesn’t everybody us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loc.gov/rr/scitech/mysteries/images/sunscreen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ppearance Matt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raditional inorganic sunscreens have appear white on our ski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any people don’t like how this looks, so they don’t use sunscreen with inorganic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f the people who do use them, most apply too little to get full prote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4girls.gov/body/sunscreen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arance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inorganic sunscreens have appear white on our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don’t like how this looks, so they don’t use sunscreen with inorganic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people who do use them, most apply too little to get full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4girls.gov/body/sunscree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y Do They Appear White?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raditional ZnO and TiO2 clusters are lar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&gt; 200nm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arge clusters scatter visible light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400-700 nm)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aximum scattering occurs for wavelengths twice as large as the clust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cattered light is reflected to our eyes, appearing whit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Original i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They Appear Whit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ZnO and TiO2 clusters are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&gt; 200n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clusters scatter visible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00-700 n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scattering occurs for wavelengths twice as large as the clu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attered light is reflected to our eyes, appearing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Original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y don’t organic sunscreen ingredients scatter visible light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loc.gov/rr/scitech/mysteries/images/sunscreen2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organic sunscreen ingredients scatter visible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Adapted from http://www.loc.gov/rr/scitech/mysteries/images/sunscreen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Sunscreen Molecules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re Too Small to Scatter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200 nm TiO2 particle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ethoxycinnamate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Inorganic)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Organic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Note that these images are not drawn to scale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Images adapted from http://www.cse.clrc.ac.uk/msi/projects/ropa.shtml and http://www.3dchem.com/molecules.asp?ID=135#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Sunscreen Molecu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oo Small to Scatter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200 nm TiO2 partic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xycinnam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organic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rgan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te that these images are not drawn to sc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Images adapted from http://www.cse.clrc.ac.uk/msi/projects/ropa.shtml and http://www.3dchem.com/molecules.asp?ID=135#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ves and obstac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ves go around small obstac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ves scatter all around from obstacles of sizes comparable to a wavelength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ter wave (ripple tank) simulation: http://www.falstad.com/ripple/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 and obsta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 go around small obsta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 scatter all around from obstacles of sizes comparable to a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wave (ripple tank) simulation: http://www.falstad.com/rippl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could we do to inorganic clusters to prevent them from scattering visible light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loc.gov/rr/scitech/mysteries/images/sunscreen2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uld we do to inorganic clusters to prevent them from scattering visible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Adapted from http://www.loc.gov/rr/scitech/mysteries/images/sunscreen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sized Inorganic Clust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aximum scattering occurs for wavelengths twice as large as the clust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ake the clusters smaller (100 nm or less) and they won’t scatter visible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sized Inorganic Clu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scattering occurs for wavelengths twice as large as the clu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e clusters smaller (100 nm or less) and they won’t scatter visibl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y Use Sunscree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oo much unprotected sun exposure leads to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Premature skin aging (e.g. wrinkles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bur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canc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oasishospital.org/previousnews.html; http://wohba.com/archive/2005_03_01_archive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Use Sunscre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unprotected sun exposure lead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ature skin aging (e.g. wrink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bu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http://www.oasishospital.org/previousnews.html; http://wohba.com/archive/2005_03_01_archiv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-Sunscreen Appears Clea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science.org.au/sats2003/images/barber-slide3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-Sunscreen Appears Cl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science.org.au/sats2003/images/barber-slide3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et’s Look at Some Real Data…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ree sunscreens were tested for scattering with different wavelengths of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ne contains nanosized inorganic ingredients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ne contains traditional inorganic ingredients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ne contains organic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an you answer these three questions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ich one is which and how do you know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ill each one appear white or clear on your ski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size (approximately) are the clusters in each sunscree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Some Real Data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sunscreens were tested for scattering with different wavelengths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ntains nanosized inorganic ingredi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ntains traditional inorganic ingredi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ntains organic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answer these three 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ne is which and how do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each one appear white or clear on your sk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ize (approximately) are the clusters in each sunscre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ight Scattering by Three Sunscree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cattering by Three Sunscr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 Summary…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particle sunscreen ingredients are small inorganic clusters that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Provide good UV protection by absorbing both UVB and UVA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ppear clear on our skin because they are too small to scatter visible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smalltimes.com/images/st_advancednanotech_inside_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ummar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particle sunscreen ingredients are small inorganic clusters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good UV protection by absorbing both UVB and UVA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ar clear on our skin because they are too small to scatter visibl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smalltimes.com/images/st_advancednanotech_inside_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ssential Questions: Time for Answ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are the most important factors to consider in choosing a sunscree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you know if a sunscreen has “nano” ingredient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“nano” sunscreen ingredients differ from other ingredients currently used in sunscreen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ential Questions: Time for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most important factors to consider in choosing a sunscre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if a sunscreen has “nano” ingredi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“nano” sunscreen ingredients differ from other ingredients currently used in sunscre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Cancer Rates are Rising Fas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cancer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s ~50% of all cancer cas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as &gt; 1 million cases diagnosed each yea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auses 1 person to die every hou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Probability of getting skin cancer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1930 : 1 in 5,000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2004 : 1 in 65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2050 : 1 in 10…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ttp://www.skincarephysicians.com/skincancernet/whatis.html; http://www.msu.edu/~aslocum/sun/skincancer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auses of the increase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ecrease ozone prote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creased time in the su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creased use of tanning bed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msnbc.msn.com/id/8379291/site/newsweek/ ;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 Rates are Rising 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~50% of all cancer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&gt; 1 million cases diagnosed each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1 person to die every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ility of getting skin canc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0 : 1 in 5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4 : 1 in 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50 : 1 in 10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kincarephysicians.com/skincancernet/whatis.html; http://www.msu.edu/~aslocum/sun/skincanc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of the increa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ozone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time in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use of tanning b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http://www.msnbc.msn.com/id/8379291/site/newsweek/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are sun ray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un emits several kinds of electromagnetic radiation: Visible (Vis), Infrared (IR) and Ultra Violet (UV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ach kind is distinguished by a characteristic wavelength, frequency and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er energy radiation can damage our ski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 Energy    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un ray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emits several kinds of electromagnetic radiation: Visible (Vis), Infrared (IR) and Ultra Violet (U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kind is distinguished by a characteristic wavelength, frequency a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nergy radiation can damage our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Full Electromagnetic Spectru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Visible, Infrared and UV radiation are only part of the full spectrum of electromagnetic radia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mhhe.com/physsci/astronomy/arny/instructor/graphics/ch03/0305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ll Electromagnetic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le, Infrared and UV radiation are only part of the full spectrum of electromagnetic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mhhe.com/physsci/astronomy/arny/instructor/graphics/ch03/0305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un’s Radiation Spectru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 43% is in the visible ran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 49% is in the near infrared ran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 7% is in the ultraviolet ran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&lt; 1% is x-rays, gamma waves, and radio wav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ost of the sun’s radiation is UV, Vis &amp; IR : 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ucar.edu/learn/imgcat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’s Radiation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43% is in the visible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49% is in the near infrare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7% is in the ultraviolet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 1% is x-rays, gamma waves, and radio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un’s radiation is UV, Vis &amp; IR 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Adapted from http://www.ucar.edu/learn/imgcat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4000" y="396432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7444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6252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0140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400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6252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0140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24000" y="609120"/>
            <a:ext cx="80992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7444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4000" y="396432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7444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6252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0140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2400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6252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0140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609120"/>
            <a:ext cx="80992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7444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8"/>
          <p:cNvGraphicFramePr/>
          <p:nvPr/>
        </p:nvGraphicFramePr>
        <p:xfrm>
          <a:off x="20520" y="39600"/>
          <a:ext cx="9123480" cy="679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20" y="39600"/>
                    <a:ext cx="9123480" cy="679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33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483400" y="279360"/>
            <a:ext cx="569880" cy="2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3366cc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20520" y="14400"/>
          <a:ext cx="9104400" cy="683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20" y="14400"/>
                    <a:ext cx="9104400" cy="68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Text Box 8"/>
          <p:cNvSpPr/>
          <p:nvPr/>
        </p:nvSpPr>
        <p:spPr>
          <a:xfrm>
            <a:off x="3006720" y="6470640"/>
            <a:ext cx="31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666666"/>
                </a:solidFill>
                <a:latin typeface="Verdana"/>
              </a:rPr>
              <a:t>Copyright © 2005 SRI International</a:t>
            </a:r>
            <a:endParaRPr b="0" lang="en-US" sz="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33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epa.gov/sunwise/uvindex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falstad.com/rippl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43040" y="1562040"/>
            <a:ext cx="3962520" cy="11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Nano Sunscreen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343040" y="2895120"/>
            <a:ext cx="39625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Wave of the Future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977760" y="482616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4182b"/>
                </a:solidFill>
                <a:latin typeface="Arial"/>
              </a:rPr>
              <a:t>Modified slightly from the NanoSense web materials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34" name="Picture 18" descr="sun-in-box"/>
          <p:cNvPicPr/>
          <p:nvPr/>
        </p:nvPicPr>
        <p:blipFill>
          <a:blip r:embed="rId1"/>
          <a:stretch/>
        </p:blipFill>
        <p:spPr>
          <a:xfrm>
            <a:off x="5708520" y="1488960"/>
            <a:ext cx="2917800" cy="28130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at is Radiation?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9200" y="1600200"/>
            <a:ext cx="571680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Light radiation is often thought of as a wave with a wavelength (</a:t>
            </a:r>
            <a:r>
              <a:rPr b="1" lang="en-US" sz="2400" spc="-1" strike="noStrike">
                <a:solidFill>
                  <a:srgbClr val="666666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) and frequency (f) related by this equation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2600" y="6597720"/>
            <a:ext cx="6851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pueblo.gsa.gov/cic_text/health/sun_uv/sun-uv-you.htm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196920" y="3959280"/>
            <a:ext cx="8485200" cy="19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nce c (the speed of light) is constant,  the wavelength and frequency are inversely related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is means that light with a short wavelength will have a high frequency and visa versa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53800" indent="-25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49720" indent="-211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39" name="Picture 20" descr="WaveEquationInverseForms"/>
          <p:cNvPicPr/>
          <p:nvPr/>
        </p:nvPicPr>
        <p:blipFill>
          <a:blip r:embed="rId2"/>
          <a:stretch/>
        </p:blipFill>
        <p:spPr>
          <a:xfrm>
            <a:off x="965160" y="4863960"/>
            <a:ext cx="4800600" cy="685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1" descr="WaveEquationStandard"/>
          <p:cNvPicPr/>
          <p:nvPr/>
        </p:nvPicPr>
        <p:blipFill>
          <a:blip r:embed="rId3"/>
          <a:stretch/>
        </p:blipFill>
        <p:spPr>
          <a:xfrm>
            <a:off x="2436840" y="3098880"/>
            <a:ext cx="2697120" cy="5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Tahoma"/>
              </a:rPr>
              <a:t>Two Ways to Think about Radiation Energy</a:t>
            </a:r>
            <a:endParaRPr b="1" lang="en-US" sz="28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09928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Energy Comes in Packets (Photons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 size of an energy packet (E) is determined by the frequency of the radiation (f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grpSp>
        <p:nvGrpSpPr>
          <p:cNvPr id="144" name="Group 23"/>
          <p:cNvGrpSpPr/>
          <p:nvPr/>
        </p:nvGrpSpPr>
        <p:grpSpPr>
          <a:xfrm>
            <a:off x="4546440" y="3873600"/>
            <a:ext cx="3657600" cy="2529360"/>
            <a:chOff x="4546440" y="3873600"/>
            <a:chExt cx="3657600" cy="2529360"/>
          </a:xfrm>
        </p:grpSpPr>
        <p:sp>
          <p:nvSpPr>
            <p:cNvPr id="145" name="Line 12"/>
            <p:cNvSpPr/>
            <p:nvPr/>
          </p:nvSpPr>
          <p:spPr>
            <a:xfrm>
              <a:off x="5419800" y="3890880"/>
              <a:ext cx="0" cy="2298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46" name="Line 13"/>
            <p:cNvSpPr/>
            <p:nvPr/>
          </p:nvSpPr>
          <p:spPr>
            <a:xfrm>
              <a:off x="5159520" y="5978520"/>
              <a:ext cx="2516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47" name="Line 14"/>
            <p:cNvSpPr/>
            <p:nvPr/>
          </p:nvSpPr>
          <p:spPr>
            <a:xfrm flipV="1">
              <a:off x="5425920" y="4202280"/>
              <a:ext cx="2014560" cy="176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48" name="Text Box 15"/>
            <p:cNvSpPr/>
            <p:nvPr/>
          </p:nvSpPr>
          <p:spPr>
            <a:xfrm>
              <a:off x="5805360" y="3957480"/>
              <a:ext cx="191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 </a:t>
              </a:r>
              <a:r>
                <a:rPr b="1" lang="en-US" sz="20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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f</a:t>
              </a:r>
              <a:endParaRPr b="0" lang="en-US" sz="20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49" name="Text Box 16"/>
            <p:cNvSpPr/>
            <p:nvPr/>
          </p:nvSpPr>
          <p:spPr>
            <a:xfrm>
              <a:off x="4546440" y="3873600"/>
              <a:ext cx="120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50" name="Text Box 17"/>
            <p:cNvSpPr/>
            <p:nvPr/>
          </p:nvSpPr>
          <p:spPr>
            <a:xfrm>
              <a:off x="7062840" y="6004080"/>
              <a:ext cx="114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151" name="Rectangle 21"/>
          <p:cNvSpPr/>
          <p:nvPr/>
        </p:nvSpPr>
        <p:spPr>
          <a:xfrm>
            <a:off x="324000" y="3809880"/>
            <a:ext cx="4535280" cy="28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Radiation with a higher frequency has more energy in each packet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 amount of energy in a packet determines how it interacts with our ski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52" name="Picture 24" descr="EnergyEquationStandard"/>
          <p:cNvPicPr/>
          <p:nvPr/>
        </p:nvPicPr>
        <p:blipFill>
          <a:blip r:embed="rId1"/>
          <a:stretch/>
        </p:blipFill>
        <p:spPr>
          <a:xfrm>
            <a:off x="2784600" y="3044880"/>
            <a:ext cx="2539800" cy="54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Tahoma"/>
              </a:rPr>
              <a:t>Two Ways to Think about Radiation Energy</a:t>
            </a:r>
            <a:endParaRPr b="1" lang="en-US" sz="28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607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otal Energy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is relates not only to how much energy is in each packet but also to the total number of packets arriving at a given location (such as our skin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12600" y="6597720"/>
            <a:ext cx="6851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epa.gov/sunwise/uvwhat.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57" name="Picture 15" descr="UVIndex"/>
          <p:cNvPicPr/>
          <p:nvPr/>
        </p:nvPicPr>
        <p:blipFill>
          <a:blip r:embed="rId1"/>
          <a:stretch/>
        </p:blipFill>
        <p:spPr>
          <a:xfrm>
            <a:off x="552600" y="3389400"/>
            <a:ext cx="2216160" cy="25779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6"/>
          <p:cNvSpPr/>
          <p:nvPr/>
        </p:nvSpPr>
        <p:spPr>
          <a:xfrm>
            <a:off x="2521080" y="3238560"/>
            <a:ext cx="621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otal Energy depends on many factors including the intensity of sunlight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 UV Index rates the total intensity of UV light for many locations in the US daily: </a:t>
            </a:r>
            <a:r>
              <a:rPr b="0" lang="en-US" sz="2000" spc="-1" strike="noStrike" u="sng">
                <a:solidFill>
                  <a:srgbClr val="46b817"/>
                </a:solidFill>
                <a:uFillTx/>
                <a:latin typeface="Tahoma"/>
                <a:hlinkClick r:id="rId2"/>
              </a:rPr>
              <a:t>http://www.epa.gov/sunwise/uvindex.htm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Skin Damage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kind of skin damage is determined by the size of the energy packet ( E = h x f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UV spectrum is broken into three parts: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Very High Energy (UVC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High Energy (UVB)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Low Energy (UVA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62" name="Picture 13" descr="SunEMSpectrumNoNums"/>
          <p:cNvPicPr/>
          <p:nvPr/>
        </p:nvPicPr>
        <p:blipFill>
          <a:blip r:embed="rId1"/>
          <a:stretch/>
        </p:blipFill>
        <p:spPr>
          <a:xfrm>
            <a:off x="4567320" y="2949480"/>
            <a:ext cx="3887640" cy="19702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4"/>
          <p:cNvSpPr/>
          <p:nvPr/>
        </p:nvSpPr>
        <p:spPr>
          <a:xfrm>
            <a:off x="4439160" y="4964040"/>
            <a:ext cx="41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High Energy    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Low Energy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0" y="6583320"/>
            <a:ext cx="665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5" name="Rectangle 17"/>
          <p:cNvSpPr/>
          <p:nvPr/>
        </p:nvSpPr>
        <p:spPr>
          <a:xfrm>
            <a:off x="361800" y="3848040"/>
            <a:ext cx="406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As far as we know, visible and IR radiation don’t harm the ski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4260960" y="1419120"/>
            <a:ext cx="450684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Very high energy radiation (UVC) is currently blocked by the ozone layer (ozone hole issue)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igh energy radiation (UVB) does the most immediate damage (sunburns)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But lower energy radiation (UVA) can penetrate deeper into the skin, leading to long term damage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-25560" y="6453360"/>
            <a:ext cx="8158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N.A. Shaath. The Chemistry of Sunscreens. In: Lowe NJ, Shaath NA, Pathak MA, editors. Sunscreens, development, evaluation, and regulatory aspects. New York: Marcel Dekker; 1997. p. 263-283. 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Skin Damage II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70" name="Picture 9" descr="SkinDepth"/>
          <p:cNvPicPr/>
          <p:nvPr/>
        </p:nvPicPr>
        <p:blipFill>
          <a:blip r:embed="rId1"/>
          <a:stretch/>
        </p:blipFill>
        <p:spPr>
          <a:xfrm>
            <a:off x="352440" y="1555920"/>
            <a:ext cx="3854520" cy="47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20760" y="1584360"/>
          <a:ext cx="8183520" cy="5014800"/>
        </p:xfrm>
        <a:graphic>
          <a:graphicData uri="http://schemas.openxmlformats.org/drawingml/2006/table">
            <a:tbl>
              <a:tblPr/>
              <a:tblGrid>
                <a:gridCol w="1081080"/>
                <a:gridCol w="1670040"/>
                <a:gridCol w="1585800"/>
                <a:gridCol w="1590840"/>
                <a:gridCol w="1371600"/>
                <a:gridCol w="884160"/>
              </a:tblGrid>
              <a:tr h="960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Radiation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Typ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Characteristic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Wavelength (</a:t>
                      </a: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Symbol"/>
                          <a:ea typeface="Symbol"/>
                        </a:rPr>
                        <a:t>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Energy per Photo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% of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Total Radiation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Reaching Earth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Effects on Human Ski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Visible to Human Eye?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UVC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200-290 nm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Short-wave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High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0%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&lt;1% of all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DNA Damag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UVB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290-320 nm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Mid-range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Medium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~.35%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5% of 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all UV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Sunbur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DNA Damag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Skin Cancer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UVA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320-400 nm   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Long-wave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Low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6.5%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95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 % of all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Tanning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Skin Aging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DNA Damag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Skin Cancer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Vis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400-700 nm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Lower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43 %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n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Currently Know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Yes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IR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~700-120,000 nm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Lowest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~49%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Heat Sensatio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(high 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 IR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Sun Radiation Summary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74" name="AutoShape 54"/>
          <p:cNvSpPr/>
          <p:nvPr/>
        </p:nvSpPr>
        <p:spPr>
          <a:xfrm>
            <a:off x="3075120" y="2189160"/>
            <a:ext cx="1555560" cy="4518000"/>
          </a:xfrm>
          <a:prstGeom prst="upArrow">
            <a:avLst>
              <a:gd name="adj1" fmla="val 49796"/>
              <a:gd name="adj2" fmla="val 45153"/>
            </a:avLst>
          </a:prstGeom>
          <a:solidFill>
            <a:srgbClr val="3366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creasing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5" name="AutoShape 55"/>
          <p:cNvSpPr/>
          <p:nvPr/>
        </p:nvSpPr>
        <p:spPr>
          <a:xfrm flipV="1">
            <a:off x="1450800" y="2550960"/>
            <a:ext cx="1641600" cy="4307040"/>
          </a:xfrm>
          <a:prstGeom prst="upArrow">
            <a:avLst>
              <a:gd name="adj1" fmla="val 48167"/>
              <a:gd name="adj2" fmla="val 44384"/>
            </a:avLst>
          </a:prstGeom>
          <a:solidFill>
            <a:srgbClr val="3366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creasing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avelength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317520" y="1638360"/>
            <a:ext cx="8089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Tahoma"/>
              </a:rPr>
              <a:t>With all of this possible damage, it pays to wear sunscreen, but which one should you use?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79" name="Picture 6" descr="muscles"/>
          <p:cNvPicPr/>
          <p:nvPr/>
        </p:nvPicPr>
        <p:blipFill>
          <a:blip r:embed="rId1"/>
          <a:stretch/>
        </p:blipFill>
        <p:spPr>
          <a:xfrm>
            <a:off x="3005280" y="3548160"/>
            <a:ext cx="2473200" cy="27352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7"/>
          <p:cNvSpPr/>
          <p:nvPr/>
        </p:nvSpPr>
        <p:spPr>
          <a:xfrm>
            <a:off x="-25560" y="6593040"/>
            <a:ext cx="8158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niehs.nih.gov/oc/factsheets/genes/home.htm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82" name="Picture 16" descr="SunscreenProductRange"/>
          <p:cNvPicPr/>
          <p:nvPr/>
        </p:nvPicPr>
        <p:blipFill>
          <a:blip r:embed="rId1"/>
          <a:stretch/>
        </p:blipFill>
        <p:spPr>
          <a:xfrm>
            <a:off x="1835280" y="1828800"/>
            <a:ext cx="5244840" cy="38098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ich Sunscreen Should You Use???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84" name="Picture 17" descr="SunscreenForYourSunDay"/>
          <p:cNvPicPr/>
          <p:nvPr/>
        </p:nvPicPr>
        <p:blipFill>
          <a:blip r:embed="rId2"/>
          <a:stretch/>
        </p:blipFill>
        <p:spPr>
          <a:xfrm>
            <a:off x="6381720" y="2427120"/>
            <a:ext cx="1866960" cy="4233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9" descr="ManyCoppertone"/>
          <p:cNvPicPr/>
          <p:nvPr/>
        </p:nvPicPr>
        <p:blipFill>
          <a:blip r:embed="rId3"/>
          <a:stretch/>
        </p:blipFill>
        <p:spPr>
          <a:xfrm>
            <a:off x="318960" y="1535040"/>
            <a:ext cx="2156040" cy="1959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4" descr="SunSunscreen"/>
          <p:cNvPicPr/>
          <p:nvPr/>
        </p:nvPicPr>
        <p:blipFill>
          <a:blip r:embed="rId4"/>
          <a:stretch/>
        </p:blipFill>
        <p:spPr>
          <a:xfrm>
            <a:off x="0" y="3882960"/>
            <a:ext cx="2955960" cy="3192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0" descr="SunSport2"/>
          <p:cNvPicPr/>
          <p:nvPr/>
        </p:nvPicPr>
        <p:blipFill>
          <a:blip r:embed="rId5"/>
          <a:stretch/>
        </p:blipFill>
        <p:spPr>
          <a:xfrm>
            <a:off x="7677000" y="1535040"/>
            <a:ext cx="1190880" cy="29592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1" descr="SunscreenGlow"/>
          <p:cNvPicPr/>
          <p:nvPr/>
        </p:nvPicPr>
        <p:blipFill>
          <a:blip r:embed="rId6"/>
          <a:stretch/>
        </p:blipFill>
        <p:spPr>
          <a:xfrm>
            <a:off x="4280040" y="3619440"/>
            <a:ext cx="2908080" cy="29084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0"/>
          <p:cNvSpPr/>
          <p:nvPr/>
        </p:nvSpPr>
        <p:spPr>
          <a:xfrm>
            <a:off x="-279360" y="174132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 and Improved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3701880" y="2473200"/>
            <a:ext cx="60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 with Nano-Z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0" y="530064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F 50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2049480" y="587844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es on Clear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3622680" y="451152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fe for Children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-544680" y="3706920"/>
            <a:ext cx="60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oadband Protection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Challenge: 3 Essential Question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hat are the most important factors to consider in choosing a sunscreen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do you know if a sunscreen has “nano” ingredient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do “nano” sunscreen ingredients differ from other ingredients currently used in sunscreen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-19080" y="6423120"/>
            <a:ext cx="87663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s: http://www.bbc.co.uk/wiltshire/content/articles/2005/05/05/peoples_war_feature.s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                </a:t>
            </a: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http://www.arpansa.gov.au/is_sunys.htm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 Brief History of Sunscreens: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Beginning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4000" y="1619280"/>
            <a:ext cx="4908240" cy="12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irst developed for soldiers in WWII (1940s) to block “sunburn causing rays”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-122400" y="5533920"/>
            <a:ext cx="44960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646200" indent="-24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Shorter wavelengths (more energy) called UVC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03" name="Picture 6" descr="UVSpectrum"/>
          <p:cNvPicPr/>
          <p:nvPr/>
        </p:nvPicPr>
        <p:blipFill>
          <a:blip r:embed="rId1"/>
          <a:stretch/>
        </p:blipFill>
        <p:spPr>
          <a:xfrm>
            <a:off x="3073320" y="3592440"/>
            <a:ext cx="2475000" cy="190044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7"/>
          <p:cNvSpPr/>
          <p:nvPr/>
        </p:nvSpPr>
        <p:spPr>
          <a:xfrm>
            <a:off x="4011480" y="5533920"/>
            <a:ext cx="42735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Longer wavelengths (less energy) called UVA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 flipH="1">
            <a:off x="4307040" y="3328920"/>
            <a:ext cx="15840" cy="441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 flipH="1" flipV="1">
            <a:off x="5241600" y="4560840"/>
            <a:ext cx="1770120" cy="10224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V="1">
            <a:off x="1465200" y="4599000"/>
            <a:ext cx="1770120" cy="10224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1263600" y="2919240"/>
            <a:ext cx="40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se were called UVB ray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09" name="Picture 12" descr="WWIINEw"/>
          <p:cNvPicPr/>
          <p:nvPr/>
        </p:nvPicPr>
        <p:blipFill>
          <a:blip r:embed="rId2"/>
          <a:stretch/>
        </p:blipFill>
        <p:spPr>
          <a:xfrm>
            <a:off x="5796000" y="1598760"/>
            <a:ext cx="2577960" cy="19303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13"/>
          <p:cNvSpPr/>
          <p:nvPr/>
        </p:nvSpPr>
        <p:spPr>
          <a:xfrm>
            <a:off x="5838840" y="3639960"/>
            <a:ext cx="249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WII soldier in the sun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Nano Product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Number of products using nanomaterials is growing very rapidly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oubling every year?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lothing, food and beverages, sporting goods, coatings, cosmetics, personal car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screens: many use nanomaterial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Some labeled as containing nanoparticle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Some not labeled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34920" y="6435720"/>
            <a:ext cx="61261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s: http://www.shop.beautysurg.com/ProductImages/skincare/14521.jpg and   http://www.shop.beautysurg.com/ProductImages/skincare/14520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 Brief History of Sunscreens: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SPF Rating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2637000"/>
            <a:ext cx="458784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PF (Sunscreen Protection Factor) Number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easures the strength of UVB protection only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Higher SPF # = more protection from UVB 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oesn’t tell you anything about protection from UVA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438120" y="1589040"/>
            <a:ext cx="844092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screens first developed to prevent sunbur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ngredients were good UVB blocker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19" name="Picture 9" descr="solBar30"/>
          <p:cNvPicPr/>
          <p:nvPr/>
        </p:nvPicPr>
        <p:blipFill>
          <a:blip r:embed="rId4"/>
          <a:stretch/>
        </p:blipFill>
        <p:spPr>
          <a:xfrm>
            <a:off x="6680160" y="1973160"/>
            <a:ext cx="1928880" cy="38577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solBar50"/>
          <p:cNvPicPr/>
          <p:nvPr/>
        </p:nvPicPr>
        <p:blipFill>
          <a:blip r:embed="rId5"/>
          <a:stretch/>
        </p:blipFill>
        <p:spPr>
          <a:xfrm>
            <a:off x="5265720" y="2809800"/>
            <a:ext cx="1946160" cy="38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 Brief History of Sunscreens: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UVA Problem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46749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UVA rays have no immediate visible effects but cause serious long term damage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ancer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Skin aging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screen makers working to find UVA blocker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No official rating of UVA protection ye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-7920" y="6550200"/>
            <a:ext cx="622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cs.wright.edu/~agoshtas/fig8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25" name="Picture 5" descr="SkinCancer"/>
          <p:cNvPicPr/>
          <p:nvPr/>
        </p:nvPicPr>
        <p:blipFill>
          <a:blip r:embed="rId1"/>
          <a:stretch/>
        </p:blipFill>
        <p:spPr>
          <a:xfrm>
            <a:off x="4826160" y="2230560"/>
            <a:ext cx="3566880" cy="285408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4921200" y="5276880"/>
            <a:ext cx="339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wenty different skin cancer lesions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28" name="Picture 2" descr="va_beach2"/>
          <p:cNvPicPr/>
          <p:nvPr/>
        </p:nvPicPr>
        <p:blipFill>
          <a:blip r:embed="rId1"/>
          <a:stretch/>
        </p:blipFill>
        <p:spPr>
          <a:xfrm>
            <a:off x="1800360" y="2982960"/>
            <a:ext cx="5600520" cy="345924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3"/>
          <p:cNvSpPr/>
          <p:nvPr/>
        </p:nvSpPr>
        <p:spPr>
          <a:xfrm>
            <a:off x="0" y="15318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Tahoma"/>
              </a:rPr>
              <a:t>How do you know if your sunscreen is a good UVA blocker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Know Your Sunscreen: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Look at the Ingredient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2666880"/>
            <a:ext cx="4327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Lotion has “inactive ingredients”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on’t block UV ligh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UV blocking agents are “active ingredients”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Usually have more than one kind presen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6"/>
          <p:cNvSpPr/>
          <p:nvPr/>
        </p:nvSpPr>
        <p:spPr>
          <a:xfrm>
            <a:off x="120600" y="6550200"/>
            <a:ext cx="622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Original Image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6" name="AutoShape 7"/>
          <p:cNvSpPr/>
          <p:nvPr/>
        </p:nvSpPr>
        <p:spPr>
          <a:xfrm>
            <a:off x="324000" y="1658880"/>
            <a:ext cx="8277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UV blocking agents suspended in a lotio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olloidal suspension”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wo kinds of active ingredient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rganic ingredients and inorganic ingredient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37" name="Picture 8" descr="SunscreenCloseUpWithKey"/>
          <p:cNvPicPr/>
          <p:nvPr/>
        </p:nvPicPr>
        <p:blipFill>
          <a:blip r:embed="rId3"/>
          <a:stretch/>
        </p:blipFill>
        <p:spPr>
          <a:xfrm>
            <a:off x="4576680" y="2298600"/>
            <a:ext cx="3935520" cy="31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39" name="Picture 2" descr="methoxycinnamatesolo"/>
          <p:cNvPicPr/>
          <p:nvPr/>
        </p:nvPicPr>
        <p:blipFill>
          <a:blip r:embed="rId1"/>
          <a:stretch/>
        </p:blipFill>
        <p:spPr>
          <a:xfrm>
            <a:off x="5494320" y="2308320"/>
            <a:ext cx="2800440" cy="215568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Ingredients: The Basic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09160" y="1731960"/>
            <a:ext cx="514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Organic = Carbon Atom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Hydrogen, oxygen &amp; nitrogen atoms are also often involved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tructur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ovalent bond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Exist as individual molecule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ze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olecular formula determines size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ypical a few to several dozen Å (&lt;10 nm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0" y="6597720"/>
            <a:ext cx="8886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s: http://www.3dchem.com/molecules.asp?ID=135# and original image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43" name="Picture 6" descr="SunscreenCloseUp"/>
          <p:cNvPicPr/>
          <p:nvPr/>
        </p:nvPicPr>
        <p:blipFill>
          <a:blip r:embed="rId2"/>
          <a:stretch/>
        </p:blipFill>
        <p:spPr>
          <a:xfrm>
            <a:off x="5605560" y="4910040"/>
            <a:ext cx="2431800" cy="1711440"/>
          </a:xfrm>
          <a:prstGeom prst="rect">
            <a:avLst/>
          </a:prstGeom>
          <a:ln w="0">
            <a:noFill/>
          </a:ln>
        </p:spPr>
      </p:pic>
      <p:sp>
        <p:nvSpPr>
          <p:cNvPr id="244" name="Oval 7"/>
          <p:cNvSpPr/>
          <p:nvPr/>
        </p:nvSpPr>
        <p:spPr>
          <a:xfrm>
            <a:off x="5156280" y="2357280"/>
            <a:ext cx="3301920" cy="25020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5" name="Line 8"/>
          <p:cNvSpPr/>
          <p:nvPr/>
        </p:nvSpPr>
        <p:spPr>
          <a:xfrm flipH="1" flipV="1">
            <a:off x="5829480" y="4624560"/>
            <a:ext cx="1536480" cy="5968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6" name="Line 9"/>
          <p:cNvSpPr/>
          <p:nvPr/>
        </p:nvSpPr>
        <p:spPr>
          <a:xfrm flipV="1">
            <a:off x="7402680" y="4206960"/>
            <a:ext cx="860400" cy="10144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7" name="Oval 10"/>
          <p:cNvSpPr/>
          <p:nvPr/>
        </p:nvSpPr>
        <p:spPr>
          <a:xfrm flipH="1">
            <a:off x="7300800" y="5108400"/>
            <a:ext cx="139680" cy="10656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8800" bIns="28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5284800" y="1700280"/>
            <a:ext cx="32716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ctyl methoxycinnamate  (C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18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6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n organic sunscreen ingredient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00" y="609120"/>
            <a:ext cx="888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Ingredients: UV Absorption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9920" y="1689120"/>
            <a:ext cx="369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Electrons capture the energy from UV ray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y jump to higher energy level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energy is released as infrared rays which are harmless (each ray is low in energy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0" y="6597720"/>
            <a:ext cx="849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Adapted from http://www.3dchem.com/molecules.asp?ID=135#and http://members.aol.com/WSRNet/tut/absorbu.htm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53" name="Picture 5" descr="OrganicAbsorptionEmission"/>
          <p:cNvPicPr/>
          <p:nvPr/>
        </p:nvPicPr>
        <p:blipFill>
          <a:blip r:embed="rId1"/>
          <a:stretch/>
        </p:blipFill>
        <p:spPr>
          <a:xfrm>
            <a:off x="3790800" y="1557360"/>
            <a:ext cx="5203800" cy="30733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EnergyLevelOnly"/>
          <p:cNvPicPr/>
          <p:nvPr/>
        </p:nvPicPr>
        <p:blipFill>
          <a:blip r:embed="rId2"/>
          <a:stretch/>
        </p:blipFill>
        <p:spPr>
          <a:xfrm>
            <a:off x="5322960" y="4749840"/>
            <a:ext cx="2192400" cy="14763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7"/>
          <p:cNvSpPr/>
          <p:nvPr/>
        </p:nvSpPr>
        <p:spPr>
          <a:xfrm>
            <a:off x="3631680" y="3819600"/>
            <a:ext cx="110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f=2.48 eV</a:t>
            </a:r>
            <a:endParaRPr b="0" lang="en-US" sz="1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7627320" y="3819600"/>
            <a:ext cx="121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3hf=2.48 eV</a:t>
            </a:r>
            <a:endParaRPr b="0" lang="en-US" sz="16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09520" y="609120"/>
            <a:ext cx="8336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Ingredients: Absorption Range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Organic molecules only absorb UV rays whose energy matches difference between electron energy levels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ifferent kinds of molecules have different peaks and ranges of absorption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Using more than one kind of ingredient (molecule) gives broader protection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260" name="Picture 4" descr="OrganicsGraph3"/>
          <p:cNvPicPr/>
          <p:nvPr/>
        </p:nvPicPr>
        <p:blipFill>
          <a:blip r:embed="rId1"/>
          <a:stretch/>
        </p:blipFill>
        <p:spPr>
          <a:xfrm>
            <a:off x="5978520" y="4384800"/>
            <a:ext cx="2232000" cy="17859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OrganicsGraph1"/>
          <p:cNvPicPr/>
          <p:nvPr/>
        </p:nvPicPr>
        <p:blipFill>
          <a:blip r:embed="rId2"/>
          <a:stretch/>
        </p:blipFill>
        <p:spPr>
          <a:xfrm>
            <a:off x="403200" y="4384800"/>
            <a:ext cx="2232000" cy="17859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OrganicsGraph2"/>
          <p:cNvPicPr/>
          <p:nvPr/>
        </p:nvPicPr>
        <p:blipFill>
          <a:blip r:embed="rId3"/>
          <a:stretch/>
        </p:blipFill>
        <p:spPr>
          <a:xfrm>
            <a:off x="3191040" y="4384800"/>
            <a:ext cx="2232000" cy="178596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7"/>
          <p:cNvSpPr/>
          <p:nvPr/>
        </p:nvSpPr>
        <p:spPr>
          <a:xfrm>
            <a:off x="868680" y="6234120"/>
            <a:ext cx="70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ne Ingredient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wo Ingredients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hree Ingredients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0" y="6597720"/>
            <a:ext cx="8585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Graphs adapted from http://www.aims.gov.au/pages/research/projects/sunscreens/pages/sunscreens02.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66" name="Picture 2" descr="Avobezone"/>
          <p:cNvPicPr/>
          <p:nvPr/>
        </p:nvPicPr>
        <p:blipFill>
          <a:blip r:embed="rId1"/>
          <a:stretch/>
        </p:blipFill>
        <p:spPr>
          <a:xfrm>
            <a:off x="3602160" y="4492800"/>
            <a:ext cx="4533840" cy="2155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Ingredients: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bsorption Range cont.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Most organic ingredients that are currently used were selected because they are good UVB absorber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 FDA has approved 15 organic ingredient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screen makers are trying to develop organic ingredients that are good UVA blocker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Avobenzone (also known as Parasol 1789) is a new FDA approved UVA blocker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0" y="6597720"/>
            <a:ext cx="858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jchemed.chem.wisc.edu/JCEWWW/Features/MonthlyMolecules/2004/Oct/JCE2004p1491fig4.gif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380880" y="1987560"/>
            <a:ext cx="833148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How are inorganic sunscreen ingredients different from organic ones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How might this affect the way they absorb UV light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Inorganic Ingredients: The Basic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5254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Atoms Involved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Zinc or Titanium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xygen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tructur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onic attraction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luster of ion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Formula unit doesn’t dictate size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ze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Varies with # of ions in cluster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~10 nm – 300 nm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311040" y="1778040"/>
            <a:ext cx="44420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0" y="6426360"/>
            <a:ext cx="858528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microspheres-nanospheres.com/Images/Titania/TIO2%20P7.jpg and image adapted from http://www.cse.clrc.ac.uk/msi/projects/ropa.s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77" name="Picture 6" descr="TiO2-Balls"/>
          <p:cNvPicPr/>
          <p:nvPr/>
        </p:nvPicPr>
        <p:blipFill>
          <a:blip r:embed="rId1"/>
          <a:stretch/>
        </p:blipFill>
        <p:spPr>
          <a:xfrm>
            <a:off x="5423040" y="3924360"/>
            <a:ext cx="2373120" cy="16635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TiO2-ball-www-cse-clrc-ac-uk"/>
          <p:cNvPicPr/>
          <p:nvPr/>
        </p:nvPicPr>
        <p:blipFill>
          <a:blip r:embed="rId2"/>
          <a:stretch/>
        </p:blipFill>
        <p:spPr>
          <a:xfrm>
            <a:off x="5203800" y="1805040"/>
            <a:ext cx="1390680" cy="1322280"/>
          </a:xfrm>
          <a:prstGeom prst="rect">
            <a:avLst/>
          </a:prstGeom>
          <a:ln w="0">
            <a:noFill/>
          </a:ln>
        </p:spPr>
      </p:pic>
      <p:sp>
        <p:nvSpPr>
          <p:cNvPr id="279" name="Oval 8"/>
          <p:cNvSpPr/>
          <p:nvPr/>
        </p:nvSpPr>
        <p:spPr>
          <a:xfrm>
            <a:off x="6045120" y="4057560"/>
            <a:ext cx="393840" cy="39384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0" name="Oval 9"/>
          <p:cNvSpPr/>
          <p:nvPr/>
        </p:nvSpPr>
        <p:spPr>
          <a:xfrm>
            <a:off x="5067360" y="1619280"/>
            <a:ext cx="1676520" cy="16765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1" name="Line 10"/>
          <p:cNvSpPr/>
          <p:nvPr/>
        </p:nvSpPr>
        <p:spPr>
          <a:xfrm flipH="1" flipV="1">
            <a:off x="5283360" y="3016080"/>
            <a:ext cx="761760" cy="116856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2" name="Line 11"/>
          <p:cNvSpPr/>
          <p:nvPr/>
        </p:nvSpPr>
        <p:spPr>
          <a:xfrm flipV="1">
            <a:off x="6438960" y="2760840"/>
            <a:ext cx="257040" cy="145872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5584320" y="5945040"/>
            <a:ext cx="2012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Group of TiO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articles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6751800" y="1897200"/>
            <a:ext cx="174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Detail of the ions in one cluster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Дата 1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3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5889600" y="2975040"/>
            <a:ext cx="300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http://www.masspolicy.org/pdf/workshop/rejeski.pdf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Inorganic Ingredients: Cluster Size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Inorganic ingredients come in different cluster sizes (sometimes called “particles”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ifferent number of ions can cluster together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ust be a multiple of the formula uni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Tahoma"/>
              </a:rPr>
              <a:t>ZnO always has equal numbers of Zn and O atoms</a:t>
            </a:r>
            <a:endParaRPr b="0" lang="en-US" sz="2000" spc="-1" strike="noStrike">
              <a:solidFill>
                <a:srgbClr val="666666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Tahoma"/>
              </a:rPr>
              <a:t>TiO</a:t>
            </a:r>
            <a:r>
              <a:rPr b="0" lang="en-US" sz="2000" spc="-1" strike="noStrike" baseline="-25000">
                <a:solidFill>
                  <a:srgbClr val="666666"/>
                </a:solidFill>
                <a:latin typeface="Tahoma"/>
              </a:rPr>
              <a:t>2 </a:t>
            </a:r>
            <a:r>
              <a:rPr b="0" lang="en-US" sz="2000" spc="-1" strike="noStrike">
                <a:solidFill>
                  <a:srgbClr val="666666"/>
                </a:solidFill>
                <a:latin typeface="Tahoma"/>
              </a:rPr>
              <a:t>always has twice as many O as Ti atoms</a:t>
            </a:r>
            <a:endParaRPr b="0" lang="en-US" sz="20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288" name="Picture 4" descr="TiO2-ball-www-cse-clrc-ac-uk"/>
          <p:cNvPicPr/>
          <p:nvPr/>
        </p:nvPicPr>
        <p:blipFill>
          <a:blip r:embed="rId1"/>
          <a:stretch/>
        </p:blipFill>
        <p:spPr>
          <a:xfrm>
            <a:off x="4721400" y="3956040"/>
            <a:ext cx="2573280" cy="24462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TiO2-ball-small"/>
          <p:cNvPicPr/>
          <p:nvPr/>
        </p:nvPicPr>
        <p:blipFill>
          <a:blip r:embed="rId2"/>
          <a:stretch/>
        </p:blipFill>
        <p:spPr>
          <a:xfrm>
            <a:off x="1576440" y="4267080"/>
            <a:ext cx="1608120" cy="158904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6"/>
          <p:cNvSpPr/>
          <p:nvPr/>
        </p:nvSpPr>
        <p:spPr>
          <a:xfrm>
            <a:off x="1555560" y="6202440"/>
            <a:ext cx="5537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~100 nm TiO2 particle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~200 nm TiO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article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0" y="6600960"/>
            <a:ext cx="858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Images adapted from http://www.cse.clrc.ac.uk/msi/projects/ropa.s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Inorganic Ingredients: UV Absorption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23640" y="1790280"/>
            <a:ext cx="369540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Inorganics have a different absorption mechanism than organic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Absorb consistently through whole UV range up to ~380nm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is the absorption pattern different than for organic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311040" y="5305320"/>
            <a:ext cx="7523280" cy="43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96" name="Picture 5" descr="InorganicsGraph"/>
          <p:cNvPicPr/>
          <p:nvPr/>
        </p:nvPicPr>
        <p:blipFill>
          <a:blip r:embed="rId1"/>
          <a:stretch/>
        </p:blipFill>
        <p:spPr>
          <a:xfrm>
            <a:off x="4079880" y="2046240"/>
            <a:ext cx="4476600" cy="358128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6"/>
          <p:cNvSpPr/>
          <p:nvPr/>
        </p:nvSpPr>
        <p:spPr>
          <a:xfrm>
            <a:off x="0" y="6597720"/>
            <a:ext cx="8585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380880" y="1544760"/>
            <a:ext cx="83314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If inorganic sunscreen ingredients block UVA light, why doesn’t everybody use them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00" name="Picture 3" descr="sunscreen2"/>
          <p:cNvPicPr/>
          <p:nvPr/>
        </p:nvPicPr>
        <p:blipFill>
          <a:blip r:embed="rId1"/>
          <a:stretch/>
        </p:blipFill>
        <p:spPr>
          <a:xfrm>
            <a:off x="2914560" y="3691080"/>
            <a:ext cx="3264120" cy="243036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4"/>
          <p:cNvSpPr/>
          <p:nvPr/>
        </p:nvSpPr>
        <p:spPr>
          <a:xfrm>
            <a:off x="0" y="6575400"/>
            <a:ext cx="854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loc.gov/rr/scitech/mysteries/images/sunscreen2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6666"/>
                </a:solidFill>
                <a:latin typeface="Tahoma"/>
              </a:rPr>
              <a:t>Appearance Matters</a:t>
            </a:r>
            <a:endParaRPr b="1" lang="en-US" sz="3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60840" y="1600200"/>
            <a:ext cx="4627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raditional inorganic sunscreens have appear white on our skin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Many people don’t like how this looks, so they don’t use sunscreen with inorganic ingredient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Of the people who do use them, most apply too little to get full protection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0" y="6575400"/>
            <a:ext cx="8543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4girls.gov/body/sunscreen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06" name="Picture 5" descr=""/>
          <p:cNvPicPr/>
          <p:nvPr/>
        </p:nvPicPr>
        <p:blipFill>
          <a:blip r:embed="rId1"/>
          <a:stretch/>
        </p:blipFill>
        <p:spPr>
          <a:xfrm>
            <a:off x="353880" y="1677960"/>
            <a:ext cx="3149640" cy="477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y Do They Appear White? 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481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raditional ZnO and TiO</a:t>
            </a:r>
            <a:r>
              <a:rPr b="1" lang="en-US" sz="2400" spc="-1" strike="noStrike" baseline="-25000">
                <a:solidFill>
                  <a:srgbClr val="666666"/>
                </a:solidFill>
                <a:latin typeface="Tahoma"/>
              </a:rPr>
              <a:t>2 </a:t>
            </a: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lusters are larg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(&gt; 200nm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Large clusters scatter visible light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(400-700 nm)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aximum scattering occurs for wavelengths twice as large as the cluster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scattered light is reflected to our eyes, appearing whit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310" name="Picture 4" descr="Scatter"/>
          <p:cNvPicPr/>
          <p:nvPr/>
        </p:nvPicPr>
        <p:blipFill>
          <a:blip r:embed="rId1"/>
          <a:stretch/>
        </p:blipFill>
        <p:spPr>
          <a:xfrm>
            <a:off x="5089680" y="2257560"/>
            <a:ext cx="3714480" cy="34383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5"/>
          <p:cNvSpPr/>
          <p:nvPr/>
        </p:nvSpPr>
        <p:spPr>
          <a:xfrm>
            <a:off x="0" y="6597720"/>
            <a:ext cx="858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Original image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380880" y="1544760"/>
            <a:ext cx="83314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Why don’t organic sunscreen ingredients scatter visible light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0" y="6575400"/>
            <a:ext cx="854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Adapted from http://www.loc.gov/rr/scitech/mysteries/images/sunscreen2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15" name="Picture 4" descr="ManNoSunscreen"/>
          <p:cNvPicPr/>
          <p:nvPr/>
        </p:nvPicPr>
        <p:blipFill>
          <a:blip r:embed="rId1"/>
          <a:stretch/>
        </p:blipFill>
        <p:spPr>
          <a:xfrm>
            <a:off x="3060720" y="3352680"/>
            <a:ext cx="3263760" cy="24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Sunscreen Molecules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re Too Small to Scatter Light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318" name="Picture 3" descr="methoxycinnamatesolo"/>
          <p:cNvPicPr/>
          <p:nvPr/>
        </p:nvPicPr>
        <p:blipFill>
          <a:blip r:embed="rId1"/>
          <a:stretch/>
        </p:blipFill>
        <p:spPr>
          <a:xfrm>
            <a:off x="6705720" y="3544920"/>
            <a:ext cx="133200" cy="103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TiO2-ball-www-cse-clrc-ac-uk"/>
          <p:cNvPicPr/>
          <p:nvPr/>
        </p:nvPicPr>
        <p:blipFill>
          <a:blip r:embed="rId2"/>
          <a:stretch/>
        </p:blipFill>
        <p:spPr>
          <a:xfrm>
            <a:off x="598320" y="1479600"/>
            <a:ext cx="4240440" cy="40305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5"/>
          <p:cNvSpPr/>
          <p:nvPr/>
        </p:nvSpPr>
        <p:spPr>
          <a:xfrm>
            <a:off x="1454400" y="5319720"/>
            <a:ext cx="63162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~200 nm TiO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article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thoxycinnamate 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Inorganic)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Organic)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Note that these images are not drawn to scale)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0" y="6597720"/>
            <a:ext cx="858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Images adapted from http://www.cse.clrc.ac.uk/msi/projects/ropa.shtml and http://www.3dchem.com/molecules.asp?ID=135# 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2" name="Line 7"/>
          <p:cNvSpPr/>
          <p:nvPr/>
        </p:nvSpPr>
        <p:spPr>
          <a:xfrm flipV="1">
            <a:off x="6786720" y="3687480"/>
            <a:ext cx="0" cy="1592280"/>
          </a:xfrm>
          <a:prstGeom prst="line">
            <a:avLst/>
          </a:prstGeom>
          <a:ln w="28440">
            <a:solidFill>
              <a:srgbClr val="000066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aves and obstacle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aves go around small obstacle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aves scatter all around from obstacles of sizes comparable to a wavelength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ater wave (ripple tank) simulation: </a:t>
            </a:r>
            <a:r>
              <a:rPr b="1" lang="en-US" sz="2400" spc="-1" strike="noStrike" u="sng">
                <a:solidFill>
                  <a:srgbClr val="46b817"/>
                </a:solidFill>
                <a:uFillTx/>
                <a:latin typeface="Tahoma"/>
                <a:hlinkClick r:id="rId1"/>
              </a:rPr>
              <a:t>http://www.falstad.com/ripple/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380880" y="1544760"/>
            <a:ext cx="83314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What could we do to inorganic clusters to prevent them from scattering visible light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0" y="6575400"/>
            <a:ext cx="854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Adapted from http://www.loc.gov/rr/scitech/mysteries/images/sunscreen2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29" name="Picture 4" descr="sunscreen2"/>
          <p:cNvPicPr/>
          <p:nvPr/>
        </p:nvPicPr>
        <p:blipFill>
          <a:blip r:embed="rId1"/>
          <a:stretch/>
        </p:blipFill>
        <p:spPr>
          <a:xfrm>
            <a:off x="620640" y="3649680"/>
            <a:ext cx="3264120" cy="24303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" descr="ManNoSunscreen"/>
          <p:cNvPicPr/>
          <p:nvPr/>
        </p:nvPicPr>
        <p:blipFill>
          <a:blip r:embed="rId2"/>
          <a:stretch/>
        </p:blipFill>
        <p:spPr>
          <a:xfrm>
            <a:off x="4886280" y="3649680"/>
            <a:ext cx="3264120" cy="243036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6"/>
          <p:cNvSpPr/>
          <p:nvPr/>
        </p:nvSpPr>
        <p:spPr>
          <a:xfrm>
            <a:off x="3951360" y="4695840"/>
            <a:ext cx="900000" cy="447840"/>
          </a:xfrm>
          <a:prstGeom prst="rightArrow">
            <a:avLst>
              <a:gd name="adj1" fmla="val 50000"/>
              <a:gd name="adj2" fmla="val 50241"/>
            </a:avLst>
          </a:prstGeom>
          <a:solidFill>
            <a:srgbClr val="0000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24000" y="581040"/>
            <a:ext cx="8480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Nanosized Inorganic Cluster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0" y="6597720"/>
            <a:ext cx="836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222120" y="1652760"/>
            <a:ext cx="812484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Maximum scattering occurs for wavelengths twice as large as the cluster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ake the clusters smaller (100 nm or less) and they won’t scatter visible light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174600" y="3262320"/>
            <a:ext cx="4662360" cy="15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37" name="Picture 6" descr="ScatteringComparison"/>
          <p:cNvPicPr/>
          <p:nvPr/>
        </p:nvPicPr>
        <p:blipFill>
          <a:blip r:embed="rId1"/>
          <a:stretch/>
        </p:blipFill>
        <p:spPr>
          <a:xfrm>
            <a:off x="1914480" y="3354480"/>
            <a:ext cx="5054760" cy="32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y Use Sunscreen?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06240" y="1612800"/>
            <a:ext cx="627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oo much unprotected sun exposure leads to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Premature skin aging (e.g. wrinkles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burn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kin cancer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-12600" y="6591240"/>
            <a:ext cx="8813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oasishospital.org/previousnews.html; http://wohba.com/archive/2005_03_01_archive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02" name="Picture 9" descr="skin pic sunburn"/>
          <p:cNvPicPr/>
          <p:nvPr/>
        </p:nvPicPr>
        <p:blipFill>
          <a:blip r:embed="rId1"/>
          <a:stretch/>
        </p:blipFill>
        <p:spPr>
          <a:xfrm>
            <a:off x="279360" y="1471680"/>
            <a:ext cx="1806480" cy="4959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georgehamilton"/>
          <p:cNvPicPr/>
          <p:nvPr/>
        </p:nvPicPr>
        <p:blipFill>
          <a:blip r:embed="rId2"/>
          <a:stretch/>
        </p:blipFill>
        <p:spPr>
          <a:xfrm>
            <a:off x="5162400" y="3608280"/>
            <a:ext cx="22226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Tahoma"/>
              </a:rPr>
              <a:t>Nano-Sunscreen Appears Clear</a:t>
            </a:r>
            <a:endParaRPr b="1" lang="en-US" sz="36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64600" y="1778040"/>
            <a:ext cx="457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-28440" y="6583320"/>
            <a:ext cx="8584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science.org.au/sats2003/images/barber-slide3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342" name="Group 5"/>
          <p:cNvGrpSpPr/>
          <p:nvPr/>
        </p:nvGrpSpPr>
        <p:grpSpPr>
          <a:xfrm>
            <a:off x="4332240" y="1900080"/>
            <a:ext cx="4443120" cy="3844800"/>
            <a:chOff x="4332240" y="1900080"/>
            <a:chExt cx="4443120" cy="3844800"/>
          </a:xfrm>
        </p:grpSpPr>
        <p:pic>
          <p:nvPicPr>
            <p:cNvPr id="343" name="Picture 6" descr="HalfFaceFromBarberSlide"/>
            <p:cNvPicPr/>
            <p:nvPr/>
          </p:nvPicPr>
          <p:blipFill>
            <a:blip r:embed="rId1"/>
            <a:stretch/>
          </p:blipFill>
          <p:spPr>
            <a:xfrm>
              <a:off x="4870080" y="2496240"/>
              <a:ext cx="3435480" cy="324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7"/>
            <p:cNvSpPr/>
            <p:nvPr/>
          </p:nvSpPr>
          <p:spPr>
            <a:xfrm>
              <a:off x="4332240" y="1900080"/>
              <a:ext cx="160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anosized ZnO particles</a:t>
              </a: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345" name="Text Box 8"/>
            <p:cNvSpPr/>
            <p:nvPr/>
          </p:nvSpPr>
          <p:spPr>
            <a:xfrm>
              <a:off x="7290720" y="1900080"/>
              <a:ext cx="148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arge ZnO particles</a:t>
              </a: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346" name="Line 9"/>
            <p:cNvSpPr/>
            <p:nvPr/>
          </p:nvSpPr>
          <p:spPr>
            <a:xfrm>
              <a:off x="5179680" y="2526120"/>
              <a:ext cx="835200" cy="995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347" name="Line 10"/>
            <p:cNvSpPr/>
            <p:nvPr/>
          </p:nvSpPr>
          <p:spPr>
            <a:xfrm flipH="1">
              <a:off x="7126560" y="2500200"/>
              <a:ext cx="869040" cy="103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pic>
        <p:nvPicPr>
          <p:cNvPr id="348" name="Picture 11" descr="SunscreenNano"/>
          <p:cNvPicPr/>
          <p:nvPr/>
        </p:nvPicPr>
        <p:blipFill>
          <a:blip r:embed="rId2"/>
          <a:stretch/>
        </p:blipFill>
        <p:spPr>
          <a:xfrm>
            <a:off x="633240" y="2546280"/>
            <a:ext cx="3638880" cy="31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Let’s Look at Some Real Data…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2160" y="1665360"/>
            <a:ext cx="81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ree sunscreens were tested for scattering with different wavelengths of light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ne contains nanosized inorganic ingredients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ne contains traditional inorganic ingredients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ne contains organic ingredient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an you answer these three questions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Which one is which and how do you know?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Will each one appear white or clear on your skin?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What size (approximately) are the clusters in each sunscreen?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Light Scattering by Three Sunscreen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graphicFrame>
        <p:nvGraphicFramePr>
          <p:cNvPr id="354" name="Object 3"/>
          <p:cNvGraphicFramePr/>
          <p:nvPr/>
        </p:nvGraphicFramePr>
        <p:xfrm>
          <a:off x="501480" y="1479600"/>
          <a:ext cx="7583760" cy="536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1479600"/>
                    <a:ext cx="7583760" cy="53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In Summary…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Nanoparticle sunscreen ingredients are small inorganic clusters that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Provide good UV protection by absorbing both UVB and UVA ligh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Appear clear on our skin because they are too small to scatter visible ligh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359" name="Picture 4" descr="PoolGirl"/>
          <p:cNvPicPr/>
          <p:nvPr/>
        </p:nvPicPr>
        <p:blipFill>
          <a:blip r:embed="rId1"/>
          <a:stretch/>
        </p:blipFill>
        <p:spPr>
          <a:xfrm>
            <a:off x="3309840" y="4146480"/>
            <a:ext cx="2357640" cy="235764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5"/>
          <p:cNvSpPr/>
          <p:nvPr/>
        </p:nvSpPr>
        <p:spPr>
          <a:xfrm>
            <a:off x="-28440" y="6583320"/>
            <a:ext cx="8584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smalltimes.com/images/st_advancednanotech_inside_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Essential Questions: Time for Answer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hat are the most important factors to consider in choosing a sunscreen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do you know if a sunscreen has “nano” ingredient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do “nano” sunscreen ingredients differ from other ingredients currently used in sunscreen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05" name="Picture 11" descr="TanningBooth"/>
          <p:cNvPicPr/>
          <p:nvPr/>
        </p:nvPicPr>
        <p:blipFill>
          <a:blip r:embed="rId1"/>
          <a:stretch/>
        </p:blipFill>
        <p:spPr>
          <a:xfrm>
            <a:off x="5362560" y="4714920"/>
            <a:ext cx="2838600" cy="1847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CancerRatesGraphOnly"/>
          <p:cNvPicPr/>
          <p:nvPr/>
        </p:nvPicPr>
        <p:blipFill>
          <a:blip r:embed="rId2"/>
          <a:stretch/>
        </p:blipFill>
        <p:spPr>
          <a:xfrm>
            <a:off x="503280" y="1589040"/>
            <a:ext cx="3527280" cy="30765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2263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Skin Cancer Rates are Rising Fast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31960" y="1620360"/>
            <a:ext cx="3755880" cy="296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kin cancer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s ~50% of all cancer case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Has &gt; 1 million cases diagnosed each year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auses 1 person to die every hour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43080" y="1549440"/>
            <a:ext cx="3819240" cy="31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Probability of getting skin cancer: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1930 : 1 in 5,000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2004 : 1 in 65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2050 : 1 in 10… 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596880" y="6578640"/>
            <a:ext cx="915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ttp://www.skincarephysicians.com/skincancernet/whatis.html; http://www.msu.edu/~aslocum/sun/skincancer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596880" y="4673520"/>
            <a:ext cx="7794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auses of the increase: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ecrease ozone protectio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ncreased time in the su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ncreased use of tanning bed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-63360" y="6400800"/>
            <a:ext cx="915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msnbc.msn.com/id/8379291/site/newsweek/ ;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at are sun rays?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574280"/>
            <a:ext cx="795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sun emits several kinds of electromagnetic radiation: Visible (Vis), Infrared (IR) and Ultra Violet (UV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Each kind is distinguished by a characteristic wavelength, frequency and energy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igher energy radiation can damage our skin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16" name="Picture 6" descr="SunEMSpectrumNoNums"/>
          <p:cNvPicPr/>
          <p:nvPr/>
        </p:nvPicPr>
        <p:blipFill>
          <a:blip r:embed="rId1"/>
          <a:stretch/>
        </p:blipFill>
        <p:spPr>
          <a:xfrm>
            <a:off x="2533680" y="2797200"/>
            <a:ext cx="4257720" cy="21574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0" y="6583320"/>
            <a:ext cx="665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2127960" y="4913280"/>
            <a:ext cx="50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High Energy    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Low Energy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Дата 1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20" name="Picture 5" descr="0304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Full Electromagnetic Spectrum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Visible, Infrared and UV radiation are only part of the full spectrum of electromagnetic radiation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24" name="Picture 3" descr="EMspectrum"/>
          <p:cNvPicPr/>
          <p:nvPr/>
        </p:nvPicPr>
        <p:blipFill>
          <a:blip r:embed="rId1"/>
          <a:stretch/>
        </p:blipFill>
        <p:spPr>
          <a:xfrm>
            <a:off x="635040" y="2511360"/>
            <a:ext cx="7391520" cy="48769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54360" y="6570720"/>
            <a:ext cx="624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mhhe.com/physsci/astronomy/arny/instructor/graphics/ch03/0305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Дата 5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Sun’s Radiation Spectrum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87800" y="2435040"/>
            <a:ext cx="3797280" cy="36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~ 43% is in the visible rang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~ 49% is in the near infrared rang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~ 7% is in the ultraviolet rang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&lt; 1% is x-rays, gamma waves, and radio wave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639880" y="4900680"/>
            <a:ext cx="490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79360" y="1658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Most of the sun’s radiation is UV, Vis &amp; IR :  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0" y="6583320"/>
            <a:ext cx="665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ucar.edu/learn/imgcat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32" name="Picture 7" descr="SunEMSpectrumModifiedAll"/>
          <p:cNvPicPr/>
          <p:nvPr/>
        </p:nvPicPr>
        <p:blipFill>
          <a:blip r:embed="rId1"/>
          <a:stretch/>
        </p:blipFill>
        <p:spPr>
          <a:xfrm>
            <a:off x="349200" y="2425680"/>
            <a:ext cx="4584600" cy="340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21:29:49Z</dcterms:created>
  <dc:creator>lptheis</dc:creator>
  <dc:description/>
  <dc:language>en-US</dc:language>
  <cp:lastModifiedBy>LEGION</cp:lastModifiedBy>
  <cp:lastPrinted>2006-06-27T22:36:16Z</cp:lastPrinted>
  <dcterms:modified xsi:type="dcterms:W3CDTF">2018-03-12T09:31:25Z</dcterms:modified>
  <cp:revision>56</cp:revision>
  <dc:subject/>
  <dc:title>Slide 1</dc:title>
</cp:coreProperties>
</file>